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EA2E-C38A-4586-B1D4-01E62B204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F134-E40D-48FF-9787-D7DE1F46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C482-8D4E-456F-94AC-86B32C928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E226-CE9E-42AE-B266-49DBFBC4C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ADBB-3B65-4829-92AA-326CFA59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E72E-77A8-4A60-8C7B-D4855164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062C-5389-401D-B5CA-CBDC6A76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EBFE-33C2-4C50-B3D7-6A716A85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9469-7632-494F-B4BA-55C9D5C1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A421-4F3A-425F-8805-D95C3DD3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1C2A-162D-4ADB-8C9F-54D6EE79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E013-3B8D-48D1-B385-A0003729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EFB4-3B24-4B83-BDE5-7AB04712F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9:47:01Z</dcterms:created>
  <dc:creator>Patrick J. Mooney</dc:creator>
  <dc:description/>
  <dc:language>en-US</dc:language>
  <cp:lastModifiedBy>Patrick J. Mooney</cp:lastModifiedBy>
  <dcterms:modified xsi:type="dcterms:W3CDTF">2010-02-17T19:47:18Z</dcterms:modified>
  <cp:revision>1</cp:revision>
  <dc:subject/>
  <dc:title>Slide 1</dc:title>
</cp:coreProperties>
</file>